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79E-FC4C-4635-86EB-98291F84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86B-02AC-443E-B45C-CD34618D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CFF-0A17-4FF7-A6AB-8765A52F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DF3-9707-46ED-A3E9-C5A314D9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5106-0312-4B36-B695-0F655AC4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8DA2-0A83-47BB-B73C-0A655C0D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324D-E8C8-4D5F-9482-E24C966B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1C0B-4AC3-411D-A07A-ABC33633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6D28-D981-4E5A-A4B8-FC29ABD7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221A-8654-4D98-AAEE-DA3E7F33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9CE2-D827-4003-88DD-DE68F7AD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C5B-C43B-46B2-989A-D0BCAA70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FE9E-76DE-4183-92D9-8E2893A3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AF05-C436-4DB4-80D8-9A9785D6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7A8A-0574-496E-B97C-3293427E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4CB2-D19C-4761-A914-4192DF02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5701-9F74-4136-AE6D-7E39BA7B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7F75-C4B3-498E-A85F-EF7D4F2D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4BD05-AFC1-4E7F-A367-D89D6A5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FFA4-E109-42E5-AC8D-CD8D8E7E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CD11-E34D-4E53-9A88-884F89F7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320F-9320-4248-98AC-23C562F7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57A-0700-4F21-A78C-A8A2D4BE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7DB2-F240-4429-995E-98E82F10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AE27-8EB2-48CE-B670-CF206FE3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320F-9367-47FD-B1F2-223093B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EBF8-7D2E-4224-AF90-BB558DA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C41F-0B13-444A-9CF5-17B9E363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D010-453C-4A65-A12B-BCCE03DB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FA565-B415-444C-9563-666D5B67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7524F-885B-4529-8F40-0674E03A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1FB8B-4A13-4FC8-AAE6-565A5408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16BF6-7B48-46D8-9AF8-86FD3E10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1B4-4869-4505-A659-FFF9CC10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37C9F-EA63-4298-AAEC-77C5012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4AFBC-C1EE-4011-AA64-99F3E946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0C43-8723-4E7E-96E2-D8390A60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AA5C-ABCB-4FE7-ADC0-A6EC25CF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DBBC-05EE-4FBD-BE72-CDE83229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C2FDF-C519-4806-9885-DD59D482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99F8A-3A3D-4F0C-81CB-B7748FE5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CEFD-7A42-4114-9D17-203A52D5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05F2A-166B-4D28-A2C3-1CAD8BDC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A26-9EDB-4327-B1B1-68466ACC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3B9-30B9-4EC8-A158-009F7C97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CC9-FBBA-41CA-9712-B4DB16AB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8F1-2F1F-4C91-B363-A6F432A3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EAE-F2AA-4941-9F84-860D1F24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B5981-7C16-4AC6-B5CC-C2F2DEBBE72D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DDAAB-9253-4FC8-A54C-519DD940D4C5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7D3B8-64A7-4859-ADF3-CD73E38B0436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E51E7-6CA8-40DD-987D-BDF0ED15F5E7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s://learningapps.org/6236025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342360" y="2111400"/>
            <a:ext cx="991296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по учебному предмету «Русский язык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2 классе на тем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авописание парных согласных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глухости-звонкости в корне слова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7931520" y="5178600"/>
            <a:ext cx="411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 Иванова А.И.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г. Иркутска СОШ №3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955800" y="181080"/>
            <a:ext cx="826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российский  конкурс «Инновации в обучении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минация «Творческая презентация к уроку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"/>
          <p:cNvPicPr/>
          <p:nvPr/>
        </p:nvPicPr>
        <p:blipFill>
          <a:blip r:embed="rId1"/>
          <a:stretch/>
        </p:blipFill>
        <p:spPr>
          <a:xfrm>
            <a:off x="3605040" y="325440"/>
            <a:ext cx="4981680" cy="50227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1109520" y="244440"/>
            <a:ext cx="10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равописание парных согласных по глухости и звонкости в корне слова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2872440" y="5361120"/>
            <a:ext cx="62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2"/>
              </a:rPr>
              <a:t>https://learningapps.org/6236025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Тренажёр В.Ф. Базарного "/>
          <p:cNvPicPr/>
          <p:nvPr/>
        </p:nvPicPr>
        <p:blipFill>
          <a:blip r:embed="rId1"/>
          <a:srcRect l="11701" t="32853" r="12173" b="4311"/>
          <a:stretch/>
        </p:blipFill>
        <p:spPr>
          <a:xfrm>
            <a:off x="531720" y="776160"/>
            <a:ext cx="88948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2" descr=""/>
          <p:cNvPicPr/>
          <p:nvPr/>
        </p:nvPicPr>
        <p:blipFill>
          <a:blip r:embed="rId1"/>
          <a:stretch/>
        </p:blipFill>
        <p:spPr>
          <a:xfrm>
            <a:off x="525600" y="471600"/>
            <a:ext cx="3609720" cy="29574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"/>
          <p:cNvPicPr/>
          <p:nvPr/>
        </p:nvPicPr>
        <p:blipFill>
          <a:blip r:embed="rId2"/>
          <a:stretch/>
        </p:blipFill>
        <p:spPr>
          <a:xfrm>
            <a:off x="765000" y="3429000"/>
            <a:ext cx="3872160" cy="3313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"/>
          <p:cNvPicPr/>
          <p:nvPr/>
        </p:nvPicPr>
        <p:blipFill>
          <a:blip r:embed="rId3"/>
          <a:stretch/>
        </p:blipFill>
        <p:spPr>
          <a:xfrm>
            <a:off x="5683320" y="1450800"/>
            <a:ext cx="3743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4807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Мы сможем поразмышлять ….</a:t>
            </a:r>
            <a:br>
              <a:rPr sz="4000"/>
            </a:br>
            <a:r>
              <a:rPr b="1" lang="ru-RU" sz="4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Научимся различать правописание…</a:t>
            </a:r>
            <a:br>
              <a:rPr sz="4000"/>
            </a:br>
            <a:r>
              <a:rPr b="1" lang="ru-RU" sz="4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Составить алгоритм проверки ……</a:t>
            </a:r>
            <a:br>
              <a:rPr sz="4000"/>
            </a:br>
            <a:r>
              <a:rPr b="1" lang="ru-RU" sz="4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менять полученные знания на  …………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131760" y="258840"/>
            <a:ext cx="1984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19280" y="609120"/>
            <a:ext cx="67550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блако слов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2" name="Рисунок 2" descr=""/>
          <p:cNvPicPr/>
          <p:nvPr/>
        </p:nvPicPr>
        <p:blipFill>
          <a:blip r:embed="rId1"/>
          <a:stretch/>
        </p:blipFill>
        <p:spPr>
          <a:xfrm>
            <a:off x="3417840" y="1690560"/>
            <a:ext cx="493884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1655640" y="1224000"/>
            <a:ext cx="714852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дит белка на тележке,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ать мячик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ладо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ает она орешк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ичке-сестричке,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катить мячик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указательному пальцу от ладони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робью, синичке, 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катить мячик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реднему пальцу от ладони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шке толстопятому,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катить мячик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безымянному пальцу от ладони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заиньке усатому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прокатить мячик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мизинцу от ладони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"/>
          <p:cNvPicPr/>
          <p:nvPr/>
        </p:nvPicPr>
        <p:blipFill>
          <a:blip r:embed="rId1"/>
          <a:srcRect l="26104" t="36280" r="21352" b="39845"/>
          <a:stretch/>
        </p:blipFill>
        <p:spPr>
          <a:xfrm>
            <a:off x="2243160" y="669960"/>
            <a:ext cx="7035840" cy="4200480"/>
          </a:xfrm>
          <a:prstGeom prst="rect">
            <a:avLst/>
          </a:prstGeom>
          <a:ln w="0">
            <a:noFill/>
          </a:ln>
        </p:spPr>
      </p:pic>
      <p:pic>
        <p:nvPicPr>
          <p:cNvPr id="225" name="Китайская песенка про кукушку (256  kbps)" descr=""/>
          <p:cNvPicPr/>
          <p:nvPr/>
        </p:nvPicPr>
        <p:blipFill>
          <a:blip r:embed="rId2"/>
          <a:stretch/>
        </p:blipFill>
        <p:spPr>
          <a:xfrm>
            <a:off x="1087560" y="5448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2" descr="https://pandia.ru/text/83/634/images/img1_3.jpg"/>
          <p:cNvPicPr/>
          <p:nvPr/>
        </p:nvPicPr>
        <p:blipFill>
          <a:blip r:embed="rId1"/>
          <a:stretch/>
        </p:blipFill>
        <p:spPr>
          <a:xfrm>
            <a:off x="1303200" y="2122560"/>
            <a:ext cx="115920" cy="684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"/>
          <p:cNvSpPr/>
          <p:nvPr/>
        </p:nvSpPr>
        <p:spPr>
          <a:xfrm>
            <a:off x="1901880" y="1684440"/>
            <a:ext cx="83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                                                      МНОГ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___________                                                    _________________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___________                                                 НЕТ ______________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8" name="Прямая со стрелкой 8"/>
          <p:cNvCxnSpPr/>
          <p:nvPr/>
        </p:nvCxnSpPr>
        <p:spPr>
          <a:xfrm>
            <a:off x="4173120" y="1914120"/>
            <a:ext cx="1521720" cy="108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cxnSp>
        <p:nvCxnSpPr>
          <p:cNvPr id="229" name="Прямая со стрелкой 11"/>
          <p:cNvCxnSpPr/>
          <p:nvPr/>
        </p:nvCxnSpPr>
        <p:spPr>
          <a:xfrm>
            <a:off x="4173120" y="2839680"/>
            <a:ext cx="1521720" cy="108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cxnSp>
        <p:nvCxnSpPr>
          <p:cNvPr id="230" name="Прямая со стрелкой 12"/>
          <p:cNvCxnSpPr/>
          <p:nvPr/>
        </p:nvCxnSpPr>
        <p:spPr>
          <a:xfrm>
            <a:off x="4173120" y="3749400"/>
            <a:ext cx="1521720" cy="108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pic>
        <p:nvPicPr>
          <p:cNvPr id="231" name="Рисунок 13" descr=""/>
          <p:cNvPicPr/>
          <p:nvPr/>
        </p:nvPicPr>
        <p:blipFill>
          <a:blip r:embed="rId2"/>
          <a:stretch/>
        </p:blipFill>
        <p:spPr>
          <a:xfrm>
            <a:off x="355680" y="4425840"/>
            <a:ext cx="281304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1305000" y="2065320"/>
            <a:ext cx="92962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imes New Roman"/>
                <a:ea typeface="Calibri"/>
              </a:rPr>
              <a:t>Я узнал (а) …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imes New Roman"/>
                <a:ea typeface="Calibri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imes New Roman"/>
                <a:ea typeface="Calibri"/>
              </a:rPr>
              <a:t>Мы смогли поразмышлять …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imes New Roman"/>
                <a:ea typeface="Calibri"/>
              </a:rPr>
              <a:t>Пришли к выводу…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imes New Roman"/>
                <a:ea typeface="Calibri"/>
              </a:rPr>
              <a:t>Смогу ли я применить полученные знания на практике…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6192720" y="353880"/>
            <a:ext cx="30369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17T18:20:58Z</dcterms:created>
  <dc:creator>Анна Иванова</dc:creator>
  <dc:description/>
  <dc:language>en-US</dc:language>
  <cp:lastModifiedBy>Анна Ивановна Иванова</cp:lastModifiedBy>
  <dcterms:modified xsi:type="dcterms:W3CDTF">2022-11-28T14:12:31Z</dcterms:modified>
  <cp:revision>17</cp:revision>
  <dc:subject/>
  <dc:title>Презентация PowerPoint</dc:title>
</cp:coreProperties>
</file>