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22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21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6.wmf" ContentType="image/x-wmf"/>
  <Override PartName="/ppt/media/image15.png" ContentType="image/png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embeddings/oleObject1.pptx" ContentType="application/vnd.openxmlformats-officedocument.presentationml.presentation"/>
  <Override PartName="/ppt/embeddings/oleObject7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8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pptx" ContentType="application/vnd.openxmlformats-officedocument.presentationml.presentation"/>
  <Override PartName="/ppt/embeddings/oleObject6.pptx" ContentType="application/vnd.openxmlformats-officedocument.presentationml.presentation"/>
  <Override PartName="/ppt/embeddings/oleObject9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00D-FE11-4AB6-87D3-349D032F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C5D-9F6E-49F5-8973-2CC47086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B88-61AF-4A5E-B35E-7181E079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E26-F10F-48D2-AB8C-8881B5F3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2BB2B-355C-490A-87CB-A1AFA537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3C342-97C5-4979-9D25-6F73B9FC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11D5E-F340-45F8-8AA2-B9E4EDCB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7BF3B-B4F4-477C-AFAB-83E8736C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471DE-886D-42BC-86CF-F544986D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5CFCD-018C-46A4-8696-0CA39399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9CC77-F200-4839-9752-0ECBE02E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21C-2A30-4BD1-BFC1-D5F85B64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F2B56-8BEA-4595-8E6F-DBB7692E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711C7-C633-4E87-84E6-B490C614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1F818-A8A8-4855-BB96-36566FB0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F3E4C-7FCF-44D8-988F-601AEBDB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EE10B-2B7E-4570-A4A9-BA54A04F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67A-E737-43DE-81F3-7EEDCFD7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C61-FD93-4F24-A3CC-08CD2326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B1C-09A7-42F9-A644-D3A4D4E3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8AC-F7DC-4169-96D7-DD44EA94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08A-5872-4562-80BD-2BFBCBC6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7EE-69FB-4733-B97A-07352836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134-EAA6-4C83-AA47-C8CD0BAB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93E6-90D3-4605-99F2-239ACD80A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459F-F383-4150-9F07-0FC3C3EB8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package" Target="../embeddings/oleObject5.pptx"/><Relationship Id="rId10" Type="http://schemas.openxmlformats.org/officeDocument/2006/relationships/image" Target="../media/image9.wmf"/><Relationship Id="rId11" Type="http://schemas.openxmlformats.org/officeDocument/2006/relationships/package" Target="../embeddings/oleObject6.pptx"/><Relationship Id="rId12" Type="http://schemas.openxmlformats.org/officeDocument/2006/relationships/image" Target="../media/image10.wmf"/><Relationship Id="rId13" Type="http://schemas.openxmlformats.org/officeDocument/2006/relationships/package" Target="../embeddings/oleObject7.ppt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pptx"/><Relationship Id="rId16" Type="http://schemas.openxmlformats.org/officeDocument/2006/relationships/image" Target="../media/image12.png"/><Relationship Id="rId17" Type="http://schemas.openxmlformats.org/officeDocument/2006/relationships/package" Target="../embeddings/oleObject9.pptx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il-network.com/Resources/LearningActivities/Details/0dc8503c-43c2-4df1-a2e4-91e84de6eb4b" TargetMode="External"/><Relationship Id="rId2" Type="http://schemas.openxmlformats.org/officeDocument/2006/relationships/hyperlink" Target="http://www.eidos.ru/courses/themes/42329/index.htm" TargetMode="External"/><Relationship Id="rId3" Type="http://schemas.openxmlformats.org/officeDocument/2006/relationships/hyperlink" Target="http://www.eidos.ru/courses/themes/42329/index.htm" TargetMode="External"/><Relationship Id="rId4" Type="http://schemas.openxmlformats.org/officeDocument/2006/relationships/hyperlink" Target="http://www.kildyaeval.edurm.ru/" TargetMode="External"/><Relationship Id="rId5" Type="http://schemas.openxmlformats.org/officeDocument/2006/relationships/hyperlink" Target="http://www.kildyaeval.edurm.ru/" TargetMode="External"/><Relationship Id="rId6" Type="http://schemas.openxmlformats.org/officeDocument/2006/relationships/hyperlink" Target="http://www.kildyaeval.edurm.ru/" TargetMode="External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78920" y="259920"/>
            <a:ext cx="8713800" cy="6264360"/>
          </a:xfrm>
          <a:prstGeom prst="rect">
            <a:avLst/>
          </a:prstGeom>
          <a:solidFill>
            <a:srgbClr val="56886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99"/>
                </a:solidFill>
                <a:latin typeface="Monotype Corsiva"/>
              </a:rPr>
              <a:t>Организация проектной деятельности со школьниками по теме: «Создание электронных пособий с помощью визуального программирования»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95280" y="2852640"/>
            <a:ext cx="4176720" cy="3384720"/>
            <a:chOff x="395280" y="2852640"/>
            <a:chExt cx="4176720" cy="3384720"/>
          </a:xfrm>
        </p:grpSpPr>
        <p:sp>
          <p:nvSpPr>
            <p:cNvPr id="85" name=""/>
            <p:cNvSpPr/>
            <p:nvPr/>
          </p:nvSpPr>
          <p:spPr>
            <a:xfrm>
              <a:off x="395280" y="2852640"/>
              <a:ext cx="4176720" cy="33847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00" y="2997360"/>
              <a:ext cx="3816360" cy="309708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1"/>
          <a:srcRect l="10921" t="-1102" r="-111" b="2425"/>
          <a:stretch/>
        </p:blipFill>
        <p:spPr>
          <a:xfrm>
            <a:off x="826920" y="3213000"/>
            <a:ext cx="3384720" cy="2592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788000" y="3573360"/>
            <a:ext cx="3884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ильдяева Лариса Геннад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БОУ «Отрадненская ООШ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амзинского рай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спублики Мордо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806436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меры электронных продукт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торые можно создать по данной методи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11280" y="1268280"/>
          <a:ext cx="8064000" cy="5040000"/>
        </p:xfrm>
        <a:graphic>
          <a:graphicData uri="http://schemas.openxmlformats.org/drawingml/2006/table">
            <a:tbl>
              <a:tblPr/>
              <a:tblGrid>
                <a:gridCol w="2687760"/>
                <a:gridCol w="2688480"/>
                <a:gridCol w="2687760"/>
              </a:tblGrid>
              <a:tr h="18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программа «Изучаем теорему Пифагора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программа «Признаки равенства треугольников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программа «Виды треугольников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6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йт для внеклассной работы «Математический сундучок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программы «Площадь треугольника», «Площадь ромба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программа: «Синус, косинус, тангенс угла.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программа по теме «Площадь треугольни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программа «Викторина «Ребусы»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а по теме «Площадь ромб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763640" y="1841400"/>
          <a:ext cx="1525680" cy="1233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841400"/>
                    <a:ext cx="152568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284720" y="1827360"/>
          <a:ext cx="1698480" cy="12729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827360"/>
                    <a:ext cx="169848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7020000" y="1881360"/>
          <a:ext cx="1639800" cy="12301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20000" y="1881360"/>
                    <a:ext cx="163980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763640" y="3586320"/>
          <a:ext cx="1525680" cy="116172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3586320"/>
                    <a:ext cx="1525680" cy="11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500720" y="3573360"/>
          <a:ext cx="1503360" cy="1131840"/>
        </p:xfrm>
        <a:graphic>
          <a:graphicData uri="http://schemas.openxmlformats.org/presentationml/2006/ole">
            <p:oleObj progId="PowerPoint.Show.12"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00720" y="3573360"/>
                    <a:ext cx="150336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7164360" y="3591000"/>
          <a:ext cx="1495440" cy="1122120"/>
        </p:xfrm>
        <a:graphic>
          <a:graphicData uri="http://schemas.openxmlformats.org/presentationml/2006/ole">
            <p:oleObj progId="PowerPoint.Show.12"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4360" y="3591000"/>
                    <a:ext cx="149544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835280" y="5199120"/>
          <a:ext cx="1425600" cy="1090440"/>
        </p:xfrm>
        <a:graphic>
          <a:graphicData uri="http://schemas.openxmlformats.org/presentationml/2006/ole">
            <p:oleObj progId="PowerPoint.Show.12" r:id="rId1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35280" y="5199120"/>
                    <a:ext cx="142560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427640" y="5184720"/>
          <a:ext cx="1574640" cy="1100160"/>
        </p:xfrm>
        <a:graphic>
          <a:graphicData uri="http://schemas.openxmlformats.org/presentationml/2006/ole">
            <p:oleObj progId="PowerPoint.Show.12" r:id="rId1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27640" y="5184720"/>
                    <a:ext cx="157464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164360" y="5175360"/>
          <a:ext cx="1495440" cy="1122120"/>
        </p:xfrm>
        <a:graphic>
          <a:graphicData uri="http://schemas.openxmlformats.org/presentationml/2006/ole">
            <p:oleObj progId="PowerPoint.Show.12" r:id="rId1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164360" y="5175360"/>
                    <a:ext cx="149544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79280" y="333000"/>
            <a:ext cx="878544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рганизация занятий со школьни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Times New Roman"/>
              </a:rPr>
              <a:t>Проектирование будущего электронного продукта.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 выполнения проекта школьниками учитель вкладывает в запланированный электронный продукт педагогический смысл. Создаваемые пособия являются дополнением к действующим учебникам математики, алгебры и геометрии, расширяют типы упражнений для отработки изучаемых правил, новых понятий, теорем, в соответствии с методиками изучения нового понятия и теоремы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рабатываемые продукты, а также организация урочной и внеурочной деятельности школьников строятся на основе технология уровневой дифференциации. Проектная деятельность ведется с обучающимися, проявляющими повышенный интерес и высокий уровень обученности по математике. Пользователями электронных продуктов, чаще всего, являются школьники, имеющие низкий уровень обученности по математике, но не исключается использование продуктов другими учащимися, например, для повторения тем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здаваемых учебных пособиях учитывается дифференцированный подход, обусловленный структурой личности школьника, то есть учет мотивации и волевых качеств школьнико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предложенной в разработке методике можно создать материалы не только для урочной работы школьников, но и по вопросам, например,  занимательной математи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ры работ и заложенные в них методики и технологии более подробно можно найти на сайте автора методической разработки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Times New Roman"/>
              </a:rPr>
              <a:t>kildyaeval.edurm.r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странице «Математика». В методической разработке большее внимание уделяется возможностям визуального программирования. Каждый учитель может применить эти возможности программирования наложив их на другие частные методики и технологии обуч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35164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рганизация занятий со школьни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Занятия 3-8. «Изучение визуального языка программирования в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Microsoft Office PowerPoint</a:t>
            </a: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imes New Roman"/>
              </a:rPr>
              <a:t>Модуль №1. «Панель инструментов </a:t>
            </a: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VB</a:t>
            </a:r>
            <a:r>
              <a:rPr b="0" lang="ru-RU" sz="1800" spc="-1" strike="noStrike">
                <a:solidFill>
                  <a:srgbClr val="006699"/>
                </a:solidFill>
                <a:latin typeface="Times New Roman"/>
              </a:rPr>
              <a:t>, назначение кнопок, свойства объектов, окно кода, организация дружественного приветствия на слайде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ычные презентации 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Point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жно дополнить новыми возможностя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этого служа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нель инструмен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ualBasic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кно к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нель инструментов вызывается в программ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Point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анд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д-Панель инструментов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Bas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 увидите следующую Панель элемент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иболее часто используются такие элементы как: Кнопка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 button)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овое поле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 box)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пись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bel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бы вставить элемент управления в презентацию выбираем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го на панели инструментов и вставляем в презентацию щелчком мыш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44244" t="4661" r="26802" b="9675"/>
          <a:stretch/>
        </p:blipFill>
        <p:spPr>
          <a:xfrm>
            <a:off x="7667640" y="2492280"/>
            <a:ext cx="816120" cy="2016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788000" y="3141720"/>
            <a:ext cx="180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164360" y="3357720"/>
            <a:ext cx="576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806436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кно свойст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зывается щелчком правой кнопки мыши на объекте, который вы вставили в слайд. В контекстном меню выбираем опцию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С помощью свойств можно управлять внешним видом объект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но кода вызывается двойным щелчком по объекту (кнопке). Открывается окно программного кода уже с именем процедуры в вид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vate Sub CommandButton1_Click(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Button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имя процедуры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йствие, откликом на которое является эта процедура (нажатие кнопки мыши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16000" y="4149720"/>
          <a:ext cx="2590920" cy="1905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149720"/>
                    <a:ext cx="2590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292720" y="4076640"/>
          <a:ext cx="2521080" cy="18907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4076640"/>
                    <a:ext cx="252108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806436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Модуль №2 «Алгоритмическая структура «Ветвление», элемент управления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extBox</a:t>
            </a: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, функция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MsgBox</a:t>
            </a: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, элемент управления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heckBox</a:t>
            </a: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гда мы задаём вопрос, то ждём на него правильный ответ. Как это реализовать на компьютере? Алгоритмическая структура ветвление описывает эту ситуац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лгоритмически ветвление записывается так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(Если … То … Иначе … Конец Если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языке программирования так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If … Then … Else ...End I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первого ключевого слова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размещается условие. После второго ключевого слова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n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довательность команд, которая должна выполняться, если условие истинно.После третьего ключевого слова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мещается последовательность команд, которая должна выполняться, если условие ложн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ример, в презентации Вы спрашиваете: «Назовите столицу нашей Родину». В случае правильного ответа (Москва) пусть будет выходить, например, сообщение «Молодец!», в случае неправильного – сообщение «Неверно!». Тогда алгоритмическая структура будет тако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Если </a:t>
            </a:r>
            <a:r>
              <a:rPr b="0" i="1" lang="ru-RU" sz="1600" spc="-1" strike="noStrike">
                <a:solidFill>
                  <a:srgbClr val="000099"/>
                </a:solidFill>
                <a:latin typeface="Times New Roman"/>
              </a:rPr>
              <a:t>Москва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То </a:t>
            </a:r>
            <a:r>
              <a:rPr b="0" i="1" lang="ru-RU" sz="1600" spc="-1" strike="noStrike">
                <a:solidFill>
                  <a:srgbClr val="000099"/>
                </a:solidFill>
                <a:latin typeface="Times New Roman"/>
              </a:rPr>
              <a:t>«Правильно!»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Иначе </a:t>
            </a:r>
            <a:r>
              <a:rPr b="0" i="1" lang="ru-RU" sz="1600" spc="-1" strike="noStrike">
                <a:solidFill>
                  <a:srgbClr val="000099"/>
                </a:solidFill>
                <a:latin typeface="Times New Roman"/>
              </a:rPr>
              <a:t>«Неверно!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лее мы разберём как записать на язык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BA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у, содержащую «ветвление» используя для этого различные способ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806436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Элемент управления 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TextBo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ин из способов записи «Ветвления» такой. Можно задать вопросы и проверить ответы, используя для этого текстовые поля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xtBox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Для этого пишем вопрос на самом слайде. Вставляем текстовое пол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xtBo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для ввода ответа. Вставляем кнопк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Button1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ую переименуем в «Проверка». Затем вставляем ещё одно текстовое пол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xtBox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которое будет выходить сообщение о правильности ответа. Ещё нужна одна кноп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Button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ую можно переименовать в «Сброс ответа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 фрагмент такого слай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3789360"/>
            <a:ext cx="6913440" cy="244800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476360" y="5373720"/>
            <a:ext cx="4392720" cy="503280"/>
            <a:chOff x="1476360" y="5373720"/>
            <a:chExt cx="4392720" cy="503280"/>
          </a:xfrm>
        </p:grpSpPr>
      </p:grpSp>
      <p:sp>
        <p:nvSpPr>
          <p:cNvPr id="169" name=""/>
          <p:cNvSpPr/>
          <p:nvPr/>
        </p:nvSpPr>
        <p:spPr>
          <a:xfrm>
            <a:off x="2340000" y="3213000"/>
            <a:ext cx="46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3860640"/>
            <a:ext cx="51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Прошу тебя, скоро теперь мне скаж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У тополя как велика высот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9999"/>
                </a:solidFill>
                <a:latin typeface="Tahoma"/>
              </a:rPr>
              <a:t>Введите ответ:            </a:t>
            </a:r>
            <a:r>
              <a:rPr b="0" lang="en-US" sz="1800" spc="-1" strike="noStrike">
                <a:solidFill>
                  <a:srgbClr val="ff9999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9999"/>
                </a:solidFill>
                <a:latin typeface="Tahoma"/>
              </a:rPr>
              <a:t>фу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394920" y="333000"/>
            <a:ext cx="828036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перь нужно написать программный код. Для этого дважды щёлкаем по кнопк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ndButton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роверка). Появляется первая и последняя строчки программного к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rivate Sub CommandButton1_Click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………………………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этими строчками нужно самим записать код программы. Правильный ответ на вопрос в рассматриваемом примере будет 8 (футов). Поэтому, если в качестве ответа введено в текстовое поле именно число 8, то после нажатия на «Проверка» в текстовом поле2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Box2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олжно выйти сообщение: «Молодец!». Если введён другой ответ, то после нажатия на кнопку «Проверка» в текстовом поле2 выйдет сообщение «Подумай!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ный код для этого случая тако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rivate Sub CommandButton1_Click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If TextBox1.Text = "8" Th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TextBox2.Text = «Молодец!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Else: TextBox2.Text = "Подумай!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94920" y="333000"/>
            <a:ext cx="828036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Сброс значений </a:t>
            </a: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TextBo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можно сбросить все комментарии и введённые ответы из Текстовых полей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xtBo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? Для этого и вставляется в рассматриваемом примере кноп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Button2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брос ответа). Сбросить слова нужно и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xtBox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xtBo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этого на слайде дважды щёлкаем по кнопк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Button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между появившимися строчкам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Private Sub CommandButton2_Click(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…………………………………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шем сами такую программу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vate Sub CommandButton2_Click(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x1.Text = ""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x2.Text = ""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им образом очистим содержимое текстовых пол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424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Функция 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MsgBo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им другой способ организации вопросов и ответов на них. Комментарии в этом случае выводятся на панели сообщен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gBo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этого пишем на слайде свой вопрос. Рядом вставляем текстовое пол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xtBox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кнопк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Button1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ерка). В текстовое поле должен быть вставлен ответ. Вставляем также кнопк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Butto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(Сброс ответ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2708280"/>
            <a:ext cx="7704000" cy="33847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2087640" cy="1817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635280" y="3068640"/>
            <a:ext cx="410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данным рисунк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ите ви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тырехугольник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NP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тырёхугольник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NP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являе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4920" y="333000"/>
            <a:ext cx="828036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грамма выглядит таким образом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Private Sub CommandButton1_Click(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If TextBox1.Text = "квадратом" The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MsgBox "Правильно!"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Else: MsgBox "Подумай!"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End I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этой программе, если на Ваш вопрос о виде четырёхугольник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PQ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ьзователь вводит правильный ответ «квадратом», то после нажатия на кнопку «Проверка», то выходит панель сообщений с информацией «Правильно!». Если на Ваш вопрос введён неправильный ответ, то на панели выходит сообщение  «Подумай!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сброса значений из текстового поля пишем программный код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Private Sub CommandButton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_Click(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TextBox1.Text = ""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ные версии рассматриваемых электронных продуктов находятся на сайте автора разработки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ldyaeval.edurm.ru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странице «Математика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806436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Аннот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одическая разработка посвящена организации проектной деятельности со школьниками 8-11 классов во внеурочное время по созданию электронных пособий средствами визуального программирования. Электронные пособия создаются для повышения качества обученности школьников по математике, алгебре, геометр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работке раскрываются возможности языка программиров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Basic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rosoft Office  PowerPoint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создания пособий в помощь школьникам при изучении курса математики. Показано каким образом можно наложить возможности визуального программирования на педагогические технологии и предметные методики, например, уровневую дифференциацию, дифференцированный подход, обусловленный структурой личности школьника, методику изучения нового понятия, методику изучения теоремы и друг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отка может быть полезна учителям математики, информатики, а также учителям других предме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Ключевые слов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атематика, качество обученност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Basi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электронное пособие,  уровневая дифференциация, методика изучения теорем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Организации занятий, например, по созданию электронного продукт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по теме:  «Виды треугольник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роектная деятельность по созданию электронного продукта по теме «Виды треугольников» может быть организована как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нестандартная подготовка школьников к итоговой аттестации по математике в 9 классе. В этой программе в программные коды преобразова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В результате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на слайде у школьников получился тренажёр, который по введенным числам выводит сообщения существует ли треугольник, вид треугольника по углам и сторон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нешний вид слайда программ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835280" y="1628640"/>
            <a:ext cx="5457600" cy="1177920"/>
            <a:chOff x="1835280" y="1628640"/>
            <a:chExt cx="5457600" cy="1177920"/>
          </a:xfrm>
        </p:grpSpPr>
        <p:sp>
          <p:nvSpPr>
            <p:cNvPr id="180" name=""/>
            <p:cNvSpPr/>
            <p:nvPr/>
          </p:nvSpPr>
          <p:spPr>
            <a:xfrm>
              <a:off x="1835280" y="1628640"/>
              <a:ext cx="1272960" cy="473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еорем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осинусо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19640" y="1628640"/>
              <a:ext cx="1817640" cy="473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еорема: неравенство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реугольн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48320" y="1628640"/>
              <a:ext cx="1744560" cy="473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пределение ви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реугольника по угла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08240" y="1809720"/>
              <a:ext cx="311400" cy="88920"/>
            </a:xfrm>
            <a:prstGeom prst="rightArrow">
              <a:avLst>
                <a:gd name="adj1" fmla="val 50000"/>
                <a:gd name="adj2" fmla="val 87551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37280" y="1854000"/>
              <a:ext cx="311040" cy="88920"/>
            </a:xfrm>
            <a:prstGeom prst="rightArrow">
              <a:avLst>
                <a:gd name="adj1" fmla="val 50000"/>
                <a:gd name="adj2" fmla="val 87449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93760" y="2298600"/>
              <a:ext cx="2190960" cy="5079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пределение ви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реугольника по сторона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10160" y="2298600"/>
              <a:ext cx="1020600" cy="5079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равнение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трезко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99120" y="2530440"/>
              <a:ext cx="311040" cy="88920"/>
            </a:xfrm>
            <a:prstGeom prst="rightArrow">
              <a:avLst>
                <a:gd name="adj1" fmla="val 50000"/>
                <a:gd name="adj2" fmla="val 87449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30760" y="2530440"/>
              <a:ext cx="311400" cy="88920"/>
            </a:xfrm>
            <a:prstGeom prst="rightArrow">
              <a:avLst>
                <a:gd name="adj1" fmla="val 50000"/>
                <a:gd name="adj2" fmla="val 87551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940360" y="2276640"/>
            <a:ext cx="981000" cy="507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авн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гл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08000" y="3716280"/>
          <a:ext cx="5040360" cy="285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716280"/>
                    <a:ext cx="504036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4920" y="189000"/>
            <a:ext cx="828036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Организации занятий, например, по созданию электронного продукта по теме: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«Виды треугольников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граммный ко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укта «Виды треугольников» (и соответствующие каждой подпрограмм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опки слайда), написанный школьниками на язык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ualBasi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Sub CommandButton1_Click(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= TextBox1.Tex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 = TextBox2.Tex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 = TextBox3.Tex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Val(TextBox1.Text) + Val(TextBox2.Text) &lt;= Val(TextBox3.Text) Or Val(TextBox2.Text) + Val(TextBox3.Text) &lt;= Val(TextBox1.Text) Or Val(TextBox3.Text) + Val(TextBox1.Text) &lt;= Val(TextBox2.Text) Th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4.Text = 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угольник не существует. Нажмите на кнопку &lt;А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se: TextBox4.Text = "треугольник существует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Sub CommandButton2_Click(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Val(TextBox1.Text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al(TextBox2.Text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Val(TextBox3.Text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A = (b * b + c * c - a * a) / (2 * b * 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b = (a * a + c * c - b * b) / (2 * a * 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C = (a * a + b * b - c * c) / (2 * a * b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cos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 &gt; cosb Th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cos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 &gt; cosC Th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cos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 &gt; 0 Th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5.Text = "треугольник остроугольный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 = 0 Th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5.Text = 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угольник прямоугольны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10920" y="188640"/>
            <a:ext cx="806436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 &lt; 0 Th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5.Text = 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угольник тупоугольны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Sub CommandButton3_Click(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Val(TextBox1.Text) = Val(TextBox2.Text) And Val(TextBox2.Text) = Val(TextBox3.Text) Th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6.Text = 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угольник равносторонни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(Val(TextBox1.Text) = Val(TextBox2.Text) And Val(TextBox2.Text) &lt;&gt; Val(TextBox3.Text)) Or (Val(TextBox2.Text) = Val(TextBox3.Text) And Val(TextBox2.Text) &lt;&gt; Val(TextBox1.Text)) Or (Val(TextBox3.Text) = Val(TextBox1.Text) And Val(TextBox1.Text) &lt;&gt; Val(TextBox2.Text)) Th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6.Text = 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угольник равнобедренны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Val(TextBox1.Text) &lt;&gt; Val(TextBox2.Text) And Val(TextBox2.Text) &lt;&gt; Val(TextBox3.Text) And Val(TextBox1.Text) &lt;&gt; Val(TextBox3.Text) Th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6.Text = 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угольник разносторонни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Sub CommandButton4_Click(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1.Text = "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2.Text = "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3.Text = "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4.Text = "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5.Text = "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6.Text = "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Sub CommandButton5_Click(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1.Text = "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2.Text = "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3.Text = "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4.Text = "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5.Text = "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x6.Text = "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806436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Организации занятий, например, по созданию электронного продукта по теме:  «Ребус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едём пример слайда и программы, создание которых доступно даже с учащимися более младших классов, например, с шестиклассниками. Учащиеся создают слайды, подобные представленному, устанавливают две кнопки и одно текстовое поле, используя инструменты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ualBasic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атем двумя щелчками мыши по любой из кнопок слайда переходят в режим программирования. Программный код, который соответствует слайду и правильному ответу на вопрос ребуса «Диагональ» представлен ниж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едующий слайд (с другим вопросом, ребусом) можно получить копируя рассмотренный, изменив в программном коде слово «Диагональ» на другое, например, на слово «Дробь». Если правильный ответ на вопрос слайда - это слово «Дробь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3" descr="snap0540[1]"/>
          <p:cNvPicPr/>
          <p:nvPr/>
        </p:nvPicPr>
        <p:blipFill>
          <a:blip r:embed="rId1"/>
          <a:stretch/>
        </p:blipFill>
        <p:spPr>
          <a:xfrm>
            <a:off x="2195640" y="3068640"/>
            <a:ext cx="5040360" cy="231156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2050920" y="5516640"/>
            <a:ext cx="4319640" cy="536400"/>
            <a:chOff x="2050920" y="5516640"/>
            <a:chExt cx="4319640" cy="53640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806436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ограммный код продукта «Ребусы» и соответствующие кноп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слайд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Private Sub CommandButton1_Click(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If TextBox1.Text = "Диагональ" The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MsgBox "Правильно!"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Else: MsgBox "Подумай!"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Private Sub CommandButton2_Click(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TextBox1.Text = ""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828180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аключ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 проектной деятельности со школьниками по теме: «Создание электронных пособий с помощью визуального программирования» во внеурочной деятельности позволил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. Создать электронные пособия для более повышения качества обученности школьников и для эффективной реализации дифференцированного подхода к обучению школьников математик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. Начать изучать элементы программирования с более раннего возраста, что без использования визуального языка программиров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Basi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werPoi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е удавалос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. Создать особый микроклимат в классах, скреплению отношений между учителем и учени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). Повысить самооценку учащихся, увлекающихся компьютерными технологиями и утвердить в школьной среде престиж зна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806436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Кильдяева Л.Г. Что получится, если к математике прибавить информатику? //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rosoft Partners in Learni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RL: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http://www.pil-network.com/Resources/LearningActivities/Details/0dc8503c-43c2-4df1-a2e4-91e84de6eb4b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Кильдяева Л.Г., Хуторской А.В. Как запрограммировать дополнительные интерактивные возможности для презентации PowerPoint//Центр дистанционного образования «Эйдос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URL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:http://www.eidos.ru/courses/themes/42329/index.ht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Саранцев Г.И. Методика обучения математике в средней школе. М., 2002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URL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: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kildyaeval.edurm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ильдяева Л.Г. Дифференцированный подход к обучению геометрии учащихся основной школы: дисс…. канд. пед. наук. – Саранск, 200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03640" y="404640"/>
            <a:ext cx="35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тература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828180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Прило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грамма «Виды треугольников». (По введенным значениям сторон компьютер выдаёт пользователю сообщения о виде треугольник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грамма «Треугольник». (Пользователь выполняет на слайде предложенные задания, вводит свои варианты ответов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рагмент программы «Ребусы». (Пользователь вводит ответ в текстовое поле, компьютер выдаёт сообщение о правильности выполнения задан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324000" y="1557360"/>
          <a:ext cx="107604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107604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 txBox="1"/>
          <p:nvPr/>
        </p:nvSpPr>
        <p:spPr>
          <a:xfrm rot="21461400">
            <a:off x="1258920" y="188640"/>
            <a:ext cx="6477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51"/>
                <a:gd name="adj2" fmla="val -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Определить вид тре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112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6108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484360" y="1268280"/>
            <a:ext cx="41720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69696"/>
                </a:solidFill>
                <a:latin typeface="Arial"/>
              </a:rPr>
              <a:t>Введите длины сторон </a:t>
            </a:r>
            <a:endParaRPr b="1" lang="en-US" sz="2800" spc="1" strike="noStrike">
              <a:ln w="9360">
                <a:solidFill>
                  <a:srgbClr val="990099"/>
                </a:solidFill>
                <a:miter/>
              </a:ln>
              <a:solidFill>
                <a:srgbClr val="96969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69696"/>
                </a:solidFill>
                <a:latin typeface="Arial"/>
              </a:rPr>
              <a:t>треугольника </a:t>
            </a:r>
            <a:endParaRPr b="1" lang="en-US" sz="2800" spc="1" strike="noStrike">
              <a:ln w="9360">
                <a:solidFill>
                  <a:srgbClr val="990099"/>
                </a:solidFill>
                <a:miter/>
              </a:ln>
              <a:solidFill>
                <a:srgbClr val="96969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69696"/>
                </a:solidFill>
                <a:latin typeface="Arial"/>
              </a:rPr>
              <a:t>в порядке возрастания</a:t>
            </a:r>
            <a:endParaRPr b="1" lang="en-US" sz="2800" spc="1" strike="noStrike">
              <a:ln w="9360">
                <a:solidFill>
                  <a:srgbClr val="990099"/>
                </a:solidFill>
                <a:miter/>
              </a:ln>
              <a:solidFill>
                <a:srgbClr val="969696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63640" y="2708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 В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97440" y="26352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 С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3080" y="270828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С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endshow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rot="19894200">
            <a:off x="896760" y="271440"/>
            <a:ext cx="3100680" cy="1549440"/>
          </a:xfrm>
          <a:prstGeom prst="triangle">
            <a:avLst>
              <a:gd name="adj" fmla="val 15056"/>
            </a:avLst>
          </a:prstGeom>
          <a:solidFill>
            <a:srgbClr val="6699ff"/>
          </a:solidFill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2133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Monotype Corsiv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76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Monotype Corsiv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Monotype Corsiv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22600"/>
            <a:ext cx="716436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Monotype Corsiva"/>
              </a:rPr>
              <a:t>Назовит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1) сторону, лежащую против угла </a:t>
            </a: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N 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2) сторону, лежащую против угла </a:t>
            </a: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NDL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3) угол, лежащий против стороны </a:t>
            </a: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DN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4) угол, лежащий против стороны </a:t>
            </a: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DL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5) углы, прилежащие к стороне </a:t>
            </a: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NL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:</a:t>
            </a: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             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 и</a:t>
            </a: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      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700360" y="0"/>
            <a:ext cx="3672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угольник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5950080"/>
            <a:ext cx="3603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580000" y="5734080"/>
            <a:ext cx="287280" cy="21600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5950080"/>
            <a:ext cx="3585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093080" y="5734080"/>
            <a:ext cx="287280" cy="21600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084720" y="4724280"/>
            <a:ext cx="287640" cy="21600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84720" y="4940280"/>
            <a:ext cx="3589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12000" y="5229000"/>
            <a:ext cx="287280" cy="21564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5445000"/>
            <a:ext cx="3585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2565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806436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Введ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етодическая разработка раскрывает вопрос создания обучающих пособий в дополнение к школьному учебнику математики для более детальной отработки изучаемых правил, новых понятий и теорем школьниками. Автор разработки считает, что заданий для усвоения содержания нового материала в учебниках математики не всегда бывает достаточно для обучающихс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Цели и задач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Результат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4360" y="2349360"/>
            <a:ext cx="7632000" cy="3887280"/>
            <a:chOff x="684360" y="2349360"/>
            <a:chExt cx="7632000" cy="3887280"/>
          </a:xfrm>
        </p:grpSpPr>
        <p:sp>
          <p:nvSpPr>
            <p:cNvPr id="92" name=""/>
            <p:cNvSpPr/>
            <p:nvPr/>
          </p:nvSpPr>
          <p:spPr>
            <a:xfrm>
              <a:off x="684360" y="2349360"/>
              <a:ext cx="1108440" cy="120492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Цель:Создан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электронного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дукта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07920" y="2367360"/>
              <a:ext cx="1108440" cy="120528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езультат: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н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думанный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электронный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дук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33560" y="2367360"/>
              <a:ext cx="1339560" cy="1186920"/>
            </a:xfrm>
            <a:custGeom>
              <a:avLst/>
              <a:gdLst>
                <a:gd name="textAreaLeft" fmla="*/ 0 w 1339560"/>
                <a:gd name="textAreaRight" fmla="*/ 1339920 w 1339560"/>
                <a:gd name="textAreaTop" fmla="*/ 0 h 1186920"/>
                <a:gd name="textAreaBottom" fmla="*/ 1186920 h 11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знакомить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учающихся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 программиро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анием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wer Poi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73120" y="2367360"/>
              <a:ext cx="1233720" cy="1186920"/>
            </a:xfrm>
            <a:custGeom>
              <a:avLst/>
              <a:gdLst>
                <a:gd name="textAreaLeft" fmla="*/ 0 w 1233720"/>
                <a:gd name="textAreaRight" fmla="*/ 1234080 w 1233720"/>
                <a:gd name="textAreaTop" fmla="*/ 0 h 1186920"/>
                <a:gd name="textAreaBottom" fmla="*/ 1186920 h 11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спределит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ол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школьников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созданию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дукт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07200" y="2367360"/>
              <a:ext cx="1466640" cy="118692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1186920"/>
                <a:gd name="textAreaBottom" fmla="*/ 1186920 h 11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рганизоват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амостоятельную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ворческую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частников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73840" y="2367360"/>
              <a:ext cx="1233720" cy="1186920"/>
            </a:xfrm>
            <a:custGeom>
              <a:avLst/>
              <a:gdLst>
                <a:gd name="textAreaLeft" fmla="*/ 0 w 1233720"/>
                <a:gd name="textAreaRight" fmla="*/ 1234080 w 1233720"/>
                <a:gd name="textAreaTop" fmla="*/ 0 h 1186920"/>
                <a:gd name="textAreaBottom" fmla="*/ 1186920 h 11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рганизоват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щиту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бо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частникам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938160" y="3268440"/>
            <a:ext cx="612360" cy="819000"/>
          </p:xfrm>
          <a:graphic>
            <a:graphicData uri="http://schemas.openxmlformats.org/presentationml/2006/ole">
              <p:oleObj progId="PowerPoint.Show.12"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8160" y="3268440"/>
                      <a:ext cx="612360" cy="81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2878560" y="4146840"/>
              <a:ext cx="1339920" cy="2089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частник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яю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 бумаг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броск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аждый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воей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част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дукта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160" y="4146840"/>
              <a:ext cx="1649520" cy="2089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Участник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амостоятельно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зучают все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озможност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граммы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ботаю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 информацией,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щаются с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омпетентным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людьми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29680" y="4087800"/>
              <a:ext cx="1487880" cy="2089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частник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щищают сво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боты в классе,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твечают н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просы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чителя и друг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руга,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лятся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пытом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7379280" y="3599280"/>
            <a:ext cx="789120" cy="1092960"/>
          </p:xfrm>
          <a:graphic>
            <a:graphicData uri="http://schemas.openxmlformats.org/presentationml/2006/ole">
              <p:oleObj progId="PowerPoint.Show.12"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79280" y="3599280"/>
                      <a:ext cx="789120" cy="109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5" name=""/>
          <p:cNvSpPr/>
          <p:nvPr/>
        </p:nvSpPr>
        <p:spPr>
          <a:xfrm>
            <a:off x="1619280" y="4149720"/>
            <a:ext cx="1465200" cy="208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частник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здают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бные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программи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ванные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айд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стируют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руг друг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4095720" cy="22017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99ff"/>
                </a:solidFill>
                <a:latin typeface="Monotype Corsiva"/>
              </a:rPr>
              <a:t>                </a:t>
            </a:r>
            <a:r>
              <a:rPr b="0" i="1" lang="en-US" sz="4400" spc="-1" strike="noStrike">
                <a:solidFill>
                  <a:srgbClr val="6699ff"/>
                </a:solidFill>
                <a:latin typeface="Monotype Corsiva"/>
              </a:rPr>
              <a:t>Расшифруйте ребус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68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68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6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68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68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6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806436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Педагогические технологии и методики, применяем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при создании электронных продук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1484280"/>
            <a:ext cx="3600360" cy="2087640"/>
          </a:xfrm>
          <a:prstGeom prst="roundRect">
            <a:avLst>
              <a:gd name="adj" fmla="val 16667"/>
            </a:avLst>
          </a:prstGeom>
          <a:solidFill>
            <a:srgbClr val="e5dbc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Дифференцирован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подход, обусловлен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структурой лич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школь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4221000"/>
            <a:ext cx="3384360" cy="1943280"/>
          </a:xfrm>
          <a:prstGeom prst="roundRect">
            <a:avLst>
              <a:gd name="adj" fmla="val 16667"/>
            </a:avLst>
          </a:prstGeom>
          <a:solidFill>
            <a:srgbClr val="ebe3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Методика изуч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ового по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4221000"/>
            <a:ext cx="3456000" cy="1944720"/>
          </a:xfrm>
          <a:prstGeom prst="roundRect">
            <a:avLst>
              <a:gd name="adj" fmla="val 16667"/>
            </a:avLst>
          </a:prstGeom>
          <a:solidFill>
            <a:srgbClr val="ebe3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Метод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изучения теор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1484280"/>
            <a:ext cx="3456000" cy="2160720"/>
          </a:xfrm>
          <a:prstGeom prst="roundRect">
            <a:avLst>
              <a:gd name="adj" fmla="val 16667"/>
            </a:avLst>
          </a:prstGeom>
          <a:solidFill>
            <a:srgbClr val="ebe3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Технолог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уровнев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дифференци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2924280"/>
            <a:ext cx="1871640" cy="1728720"/>
          </a:xfrm>
          <a:prstGeom prst="hexagon">
            <a:avLst>
              <a:gd name="adj" fmla="val 27067"/>
              <a:gd name="vf" fmla="val 115470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Times New Roman"/>
              </a:rPr>
              <a:t>Т+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79280" y="259920"/>
            <a:ext cx="878544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новная часть методической разработ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ланирование образовательной среды. Методы проект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5680" y="1052640"/>
          <a:ext cx="9058320" cy="5255640"/>
        </p:xfrm>
        <a:graphic>
          <a:graphicData uri="http://schemas.openxmlformats.org/drawingml/2006/table">
            <a:tbl>
              <a:tblPr/>
              <a:tblGrid>
                <a:gridCol w="277920"/>
                <a:gridCol w="1255680"/>
                <a:gridCol w="484200"/>
                <a:gridCol w="2900160"/>
                <a:gridCol w="1717920"/>
                <a:gridCol w="982440"/>
                <a:gridCol w="1440000"/>
              </a:tblGrid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зан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ча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я учите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я учен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будет сделано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урс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ирование будущего электронного продукт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ет наброски на бумаге планируемого электронного продукта. Вкладывает педагогический смысл в будущий продукт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ают информацию о планируемой проектной деятельности, советуется с родителями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мажный макет будущего электронного продукт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и изучения нового понятия, теоремы, технология уровневой дифференциации и др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чение визуального языка программирования в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soft Office PowerPoin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мит учащихся с языко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ualBasic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Poi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уль №1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нель инструментов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B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назначение кнопок, свойства объектов, окно кода, организация дружественного приветствия на слайд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уль №2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горитмическая структура «Ветвление», элемент управления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xtBo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функция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gBo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элемент управления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Bo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чает теорию по теме, создаёт слайды, содержащие кнопки, пишет небольшие коды, используя элементы управления, функции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йды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P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79280" y="259920"/>
            <a:ext cx="878544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ланирование образовательной среды. Методы проект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5680" y="692280"/>
          <a:ext cx="9058320" cy="5655960"/>
        </p:xfrm>
        <a:graphic>
          <a:graphicData uri="http://schemas.openxmlformats.org/drawingml/2006/table">
            <a:tbl>
              <a:tblPr/>
              <a:tblGrid>
                <a:gridCol w="276120"/>
                <a:gridCol w="1257480"/>
                <a:gridCol w="484200"/>
                <a:gridCol w="2252520"/>
                <a:gridCol w="2232000"/>
                <a:gridCol w="1116000"/>
                <a:gridCol w="1440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зан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ча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я учите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я учен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будет сделано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урс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2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аимопроверка работ участниками проект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 заполнить таблицу по взаимопроверке (в приложении)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мятся с работами друг друга, оценивают работы друг друг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лиз работ участников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P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стирование работ друг друг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ирует процесс тестирования, отвечает на вопросы участников, исправляет ошибки в кодах программ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ниваются работами, тестируют программы друг друга, подставляя разные значения в поля слайда. Находят ошибки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обретении опыта делового общения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P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еделение ролей школьников по созданию продукт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знакомит всех с планируемым продуктом, знакомит каждого с его частью работы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и выполняют на бумаге наброски каждый своей части продукт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мажный макет будущего целостного продукт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мага, карандаш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стоятельная творческая деятельность участников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ует самостоятельную деятельность участников, контролирует её, оказывает помощь, если она необходима участнику. Отвечает на вопросы школьников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стоятельно изучают все возможности программ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Poin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работают с информацией, общаются с компетентными людьми, друг с другом, руководителем проект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ные части задуманного продукт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Poin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ype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электронная почта, самодельные рисованные картинки, информация из Интернет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79280" y="259920"/>
            <a:ext cx="878544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ланирование образовательной среды. Методы проект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692280"/>
          <a:ext cx="9143640" cy="5544720"/>
        </p:xfrm>
        <a:graphic>
          <a:graphicData uri="http://schemas.openxmlformats.org/drawingml/2006/table">
            <a:tbl>
              <a:tblPr/>
              <a:tblGrid>
                <a:gridCol w="249840"/>
                <a:gridCol w="1300680"/>
                <a:gridCol w="500040"/>
                <a:gridCol w="1882080"/>
                <a:gridCol w="2356920"/>
                <a:gridCol w="1811880"/>
                <a:gridCol w="104220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зан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ча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я учите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я учен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будет сделано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урс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72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работ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ует защиту работ участниками проекта, оценивает работы. Задаёт вопросы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щают работу перед другими участниками, перед руководителем проекта, делятся приобретенными компетенциями работы в программе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Poin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обретение школьниками умения публичного выступления, отстаивания своей точки зрения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, программ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Point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8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лексия участников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 участникампроекта ответить на вопросы по рефлексии своей деятельности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чают на вопросы, анализируют свою работу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ники приобретают понимание необходимости для них занятий творческой деятельностью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мага, ручк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бор целостного продукт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собирает все работы в единый электронный продукт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ют варианты по использованию полученного продукт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 результат проект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Point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1280" y="189000"/>
            <a:ext cx="828180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6840720" cy="5761080"/>
          </a:xfrm>
          <a:prstGeom prst="roundRect">
            <a:avLst>
              <a:gd name="adj" fmla="val 16667"/>
            </a:avLst>
          </a:prstGeom>
          <a:solidFill>
            <a:srgbClr val="e5dbc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79640" y="981000"/>
            <a:ext cx="5830920" cy="5614920"/>
            <a:chOff x="1979640" y="981000"/>
            <a:chExt cx="5830920" cy="5614920"/>
          </a:xfrm>
        </p:grpSpPr>
        <p:sp>
          <p:nvSpPr>
            <p:cNvPr id="121" name=""/>
            <p:cNvSpPr/>
            <p:nvPr/>
          </p:nvSpPr>
          <p:spPr>
            <a:xfrm>
              <a:off x="4140360" y="981000"/>
              <a:ext cx="1584000" cy="1584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Самостоятельн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изучаю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программу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PowerPoi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56360" y="3068640"/>
              <a:ext cx="1654200" cy="1582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Анализируют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отбираю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интересную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информацию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в Интернет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11280" y="4292640"/>
              <a:ext cx="1798920" cy="1649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Консультируютс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с руководителе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проекта п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программам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в </a:t>
              </a: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VisualBasi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8720" y="4437000"/>
              <a:ext cx="1724040" cy="1568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Ищут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дополнительную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информацию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в библиотеках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79640" y="2924280"/>
              <a:ext cx="1727280" cy="1655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Участник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проек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тестируют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программы 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VisualBasi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друг друг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95640" y="4940280"/>
              <a:ext cx="1656000" cy="1655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Советуютс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с другим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учи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предметника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0000" y="1628640"/>
              <a:ext cx="1656000" cy="15112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Советуютс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со студентам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технических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специальносте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27280" y="1414440"/>
              <a:ext cx="1728720" cy="1654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Демонстрирую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работу родителя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дома, общаются с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другими</a:t>
              </a: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участника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в</a:t>
              </a:r>
              <a:r>
                <a:rPr b="1" lang="en-US" sz="1400" spc="-1" strike="noStrike">
                  <a:solidFill>
                    <a:srgbClr val="573268"/>
                  </a:solidFill>
                  <a:latin typeface="Times New Roman"/>
                </a:rPr>
                <a:t> Skype</a:t>
              </a:r>
              <a:r>
                <a:rPr b="1" lang="ru-RU" sz="1400" spc="-1" strike="noStrike">
                  <a:solidFill>
                    <a:srgbClr val="573268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"/>
          <p:cNvSpPr txBox="1"/>
          <p:nvPr/>
        </p:nvSpPr>
        <p:spPr>
          <a:xfrm>
            <a:off x="4055760" y="2892240"/>
            <a:ext cx="1680840" cy="1578240"/>
          </a:xfrm>
          <a:prstGeom prst="rect">
            <a:avLst/>
          </a:prstGeom>
          <a:solidFill>
            <a:srgbClr val="ffdf9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99"/>
                </a:solidFill>
                <a:latin typeface="Monotype Corsiva"/>
              </a:rPr>
              <a:t>Ш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189000"/>
            <a:ext cx="74995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еятельность и общение школьников в ходе выполнения проек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10920" y="333360"/>
            <a:ext cx="8064360" cy="61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меры педагогических технологий и частных методик преподавания, которые можно заложить в создаваемые электронные проду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773360"/>
            <a:ext cx="3384720" cy="316836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.Уровневая дифференциац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. Дифференцированный подход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условленный структур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ичности школьни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). Методика изуч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ового поня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). Методика изучения теор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27640" y="1817640"/>
            <a:ext cx="4236840" cy="4635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859280" y="1844640"/>
            <a:ext cx="3384720" cy="19432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торская методика разработ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лектронных учебных пособ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геометр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ствам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ualBas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6:29:21Z</dcterms:created>
  <dc:creator>дом</dc:creator>
  <dc:description/>
  <dc:language>en-US</dc:language>
  <cp:lastModifiedBy>компьютер</cp:lastModifiedBy>
  <dcterms:modified xsi:type="dcterms:W3CDTF">2001-12-31T21:42:50Z</dcterms:modified>
  <cp:revision>106</cp:revision>
  <dc:subject/>
  <dc:title>Слайд 1</dc:title>
</cp:coreProperties>
</file>